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F8C4-872D-4C5B-BA9E-3B7D498A0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44064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422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6B0E-ED88-47AB-8B1B-BBB7CFE13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44064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0760" y="1294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42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0760" y="3842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5F75-8959-4A4F-9C1D-E160FE585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44064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39920" y="1294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1240" y="1294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42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39920" y="3842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1240" y="3842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4FFA-5816-4484-8B90-ACC340E8D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44064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294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D660-787E-4BF6-9BE6-A59BF5131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44064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4874-45A4-48C9-9396-20EC7B7B5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44064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0760" y="1294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4984-EFCE-4873-92A1-7CCC6EEF6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44064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A6ED-1888-45F4-AF09-35479E8DE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861048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D386-B1E5-4D3A-BCB2-2D7D12299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44064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0760" y="1294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42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84DF-4D47-4091-A34C-82E6BA7B9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44064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0760" y="1294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0760" y="3842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D0FE-6EA9-42CF-99D9-DB27D4DB7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44064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0760" y="1294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422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EF79-8A55-4F91-B42F-95C989591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294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DEA76-2674-4D4D-9813-746B1717FF4E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ripremix.com/" TargetMode="External"/><Relationship Id="rId2" Type="http://schemas.openxmlformats.org/officeDocument/2006/relationships/hyperlink" Target="http://www.youtube.com/watch?v=5pidokakU4I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ang.wikipedia.org/wiki/Wikipedia:Administrators&apos;_noticeboard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666880" y="4092480"/>
            <a:ext cx="64771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The World of </a:t>
            </a:r>
            <a:br>
              <a:rPr sz="7500"/>
            </a:b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Politics: Part 2</a:t>
            </a:r>
            <a:br>
              <a:rPr sz="7500"/>
            </a:b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733920" y="5562720"/>
            <a:ext cx="5943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CB202, Week 9 Tuto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2590920" y="0"/>
            <a:ext cx="65530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8"/>
          <p:cNvSpPr/>
          <p:nvPr/>
        </p:nvSpPr>
        <p:spPr>
          <a:xfrm>
            <a:off x="3048120" y="533520"/>
            <a:ext cx="6095880" cy="63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ivic Technologies and the Future of the Internet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Jonathan Zittrain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iPhone development 30% of what you charge, goes to App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Cloud computing (where code goes) – Gate keep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Flipside of Civic Technology without public barometer - </a:t>
            </a:r>
            <a:r>
              <a:rPr b="0" i="1" lang="en-AU" sz="2700" spc="-1" strike="noStrike">
                <a:solidFill>
                  <a:srgbClr val="222268"/>
                </a:solidFill>
                <a:latin typeface="Arial"/>
              </a:rPr>
              <a:t>1984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and privacy, but you knew what the screen in the living room was for…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Civic support for major law enforcement undertakings – visibility an important facto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2590920" y="0"/>
            <a:ext cx="65530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8"/>
          <p:cNvSpPr/>
          <p:nvPr/>
        </p:nvSpPr>
        <p:spPr>
          <a:xfrm>
            <a:off x="3048120" y="533520"/>
            <a:ext cx="6095880" cy="73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ivic Technologies and the Future of the Internet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Jonathan Zittrain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USA - Slavery as example for citizens not enforcing intrusive law – North vs. South, posse didn’t organis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Civic Defence System without turning to architectures that are closed, controllable and in concentrated set parties, (which retain the code), possibily unduly allowing government regula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His suggestions: Stopbadware.or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and </a:t>
            </a:r>
            <a:r>
              <a:rPr b="0" lang="en-US" sz="2700" spc="-1" strike="noStrike">
                <a:solidFill>
                  <a:srgbClr val="222268"/>
                </a:solidFill>
                <a:latin typeface="Arial"/>
              </a:rPr>
              <a:t>Opennet.net/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2590920" y="0"/>
            <a:ext cx="65530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8"/>
          <p:cNvSpPr/>
          <p:nvPr/>
        </p:nvSpPr>
        <p:spPr>
          <a:xfrm>
            <a:off x="3048120" y="533520"/>
            <a:ext cx="5562360" cy="55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mart mobs: The Next Social Revolution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Howard Rheingol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Networks, nodes, links, path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Ad hoc, self organisa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Unpredictab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Form of information distribu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not a “thing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2590920" y="0"/>
            <a:ext cx="65530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8"/>
          <p:cNvSpPr/>
          <p:nvPr/>
        </p:nvSpPr>
        <p:spPr>
          <a:xfrm>
            <a:off x="3048120" y="533520"/>
            <a:ext cx="5562360" cy="55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mart mobs: The Next Social Revolution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Howard Rheingol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Power of the crowd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Phillipines, Estrada, SM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Battle of Seattle – WTO 1999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Netwar,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Political Swarm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907080" y="4343400"/>
            <a:ext cx="491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ripremix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youtube.com/watch?v=5pidokakU4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4"/>
          <p:cNvSpPr/>
          <p:nvPr/>
        </p:nvSpPr>
        <p:spPr>
          <a:xfrm>
            <a:off x="5181480" y="3124080"/>
            <a:ext cx="358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161645"/>
                </a:solidFill>
                <a:latin typeface="Arial"/>
              </a:rPr>
              <a:t>Culture is ou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161645"/>
                </a:solidFill>
                <a:latin typeface="Arial"/>
              </a:rPr>
              <a:t>Restricting our cultural outputs restricts our cul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467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aboo Data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990720" y="60958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www.monzy.com/cgi-bin/viewcard.cg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467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Arial"/>
              </a:rPr>
              <a:t>Individual Wiki Con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28600" y="1294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>
            <a:off x="19080" y="1422360"/>
            <a:ext cx="9105840" cy="52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467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Arial"/>
              </a:rPr>
              <a:t>Group Self Assessment Con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28600" y="1294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44280" y="1447920"/>
            <a:ext cx="905544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7"/>
          <p:cNvSpPr/>
          <p:nvPr/>
        </p:nvSpPr>
        <p:spPr>
          <a:xfrm>
            <a:off x="2590920" y="0"/>
            <a:ext cx="65530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8"/>
          <p:cNvSpPr/>
          <p:nvPr/>
        </p:nvSpPr>
        <p:spPr>
          <a:xfrm>
            <a:off x="3048120" y="838080"/>
            <a:ext cx="5562360" cy="59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222268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Have you confirmed your topic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Tabo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Discussion of Reading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Remix Manifest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Wiki CRA Sheets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Class Wiki Tim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1 on 1 topic discuss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62520" y="1096560"/>
            <a:ext cx="44956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Arial"/>
              </a:rPr>
              <a:t>Assignment 3: </a:t>
            </a:r>
            <a:br>
              <a:rPr sz="4400"/>
            </a:br>
            <a:r>
              <a:rPr b="0" lang="en-AU" sz="4400" spc="-1" strike="noStrike">
                <a:solidFill>
                  <a:srgbClr val="ffffff"/>
                </a:solidFill>
                <a:latin typeface="Arial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352320" y="2514240"/>
            <a:ext cx="5791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You must confirm your topic with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If you are one of those students who were supposed to email me this week and did not – or, if we haven’t yet, we need to meet 1 on 1 before you leave 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467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abo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Content Placeholder 3" descr="Screen shot 2010-09-13 at 9.49.55 AM.png"/>
          <p:cNvPicPr/>
          <p:nvPr/>
        </p:nvPicPr>
        <p:blipFill>
          <a:blip r:embed="rId1"/>
          <a:srcRect l="-606" t="0" r="-180" b="0"/>
          <a:stretch/>
        </p:blipFill>
        <p:spPr>
          <a:xfrm>
            <a:off x="326880" y="3379680"/>
            <a:ext cx="2802240" cy="3630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Screen shot 2010-09-13 at 9.51.28 AM.png"/>
          <p:cNvPicPr/>
          <p:nvPr/>
        </p:nvPicPr>
        <p:blipFill>
          <a:blip r:embed="rId2"/>
          <a:stretch/>
        </p:blipFill>
        <p:spPr>
          <a:xfrm>
            <a:off x="6288120" y="3421080"/>
            <a:ext cx="2548080" cy="3417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Screen shot 2010-09-13 at 9.51.50 AM.png"/>
          <p:cNvPicPr/>
          <p:nvPr/>
        </p:nvPicPr>
        <p:blipFill>
          <a:blip r:embed="rId3"/>
          <a:stretch/>
        </p:blipFill>
        <p:spPr>
          <a:xfrm>
            <a:off x="3403440" y="3398760"/>
            <a:ext cx="254808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467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2268"/>
                </a:solidFill>
                <a:latin typeface="Arial"/>
              </a:rPr>
              <a:t>Tabo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Screen shot 2010-09-13 at 9.52.20 AM.png"/>
          <p:cNvPicPr/>
          <p:nvPr/>
        </p:nvPicPr>
        <p:blipFill>
          <a:blip r:embed="rId1"/>
          <a:stretch/>
        </p:blipFill>
        <p:spPr>
          <a:xfrm>
            <a:off x="338040" y="3233880"/>
            <a:ext cx="2619360" cy="3639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creen shot 2010-09-13 at 9.52.51 AM.png"/>
          <p:cNvPicPr/>
          <p:nvPr/>
        </p:nvPicPr>
        <p:blipFill>
          <a:blip r:embed="rId2"/>
          <a:stretch/>
        </p:blipFill>
        <p:spPr>
          <a:xfrm>
            <a:off x="3220920" y="3230640"/>
            <a:ext cx="2635200" cy="3608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5" descr="Screen shot 2010-09-13 at 9.54.55 AM.png"/>
          <p:cNvPicPr/>
          <p:nvPr/>
        </p:nvPicPr>
        <p:blipFill>
          <a:blip r:embed="rId3"/>
          <a:stretch/>
        </p:blipFill>
        <p:spPr>
          <a:xfrm>
            <a:off x="6116760" y="3124080"/>
            <a:ext cx="2882880" cy="37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467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o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Screen shot 2010-09-13 at 9.53.37 AM.png"/>
          <p:cNvPicPr/>
          <p:nvPr/>
        </p:nvPicPr>
        <p:blipFill>
          <a:blip r:embed="rId1"/>
          <a:stretch/>
        </p:blipFill>
        <p:spPr>
          <a:xfrm>
            <a:off x="379440" y="3473280"/>
            <a:ext cx="2523960" cy="3418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5" descr="Screen shot 2010-09-13 at 9.54.25 AM.png"/>
          <p:cNvPicPr/>
          <p:nvPr/>
        </p:nvPicPr>
        <p:blipFill>
          <a:blip r:embed="rId2"/>
          <a:stretch/>
        </p:blipFill>
        <p:spPr>
          <a:xfrm>
            <a:off x="3336840" y="3495600"/>
            <a:ext cx="2463840" cy="3375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Screen shot 2010-09-13 at 9.50.20 AM.png"/>
          <p:cNvPicPr/>
          <p:nvPr/>
        </p:nvPicPr>
        <p:blipFill>
          <a:blip r:embed="rId3"/>
          <a:stretch/>
        </p:blipFill>
        <p:spPr>
          <a:xfrm>
            <a:off x="6167520" y="3473280"/>
            <a:ext cx="2595600" cy="34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9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9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9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467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61645"/>
                </a:solidFill>
                <a:latin typeface="Arial"/>
              </a:rPr>
              <a:t>Tabo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9" descr="Screen shot 2010-09-13 at 9.53.18 AM.png"/>
          <p:cNvPicPr/>
          <p:nvPr/>
        </p:nvPicPr>
        <p:blipFill>
          <a:blip r:embed="rId1"/>
          <a:stretch/>
        </p:blipFill>
        <p:spPr>
          <a:xfrm>
            <a:off x="3352680" y="3544920"/>
            <a:ext cx="2468520" cy="3419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" descr="Screen shot 2010-09-13 at 9.59.17 AM.png"/>
          <p:cNvPicPr/>
          <p:nvPr/>
        </p:nvPicPr>
        <p:blipFill>
          <a:blip r:embed="rId2"/>
          <a:stretch/>
        </p:blipFill>
        <p:spPr>
          <a:xfrm>
            <a:off x="457200" y="3544920"/>
            <a:ext cx="2590920" cy="3465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6" descr="Screen shot 2010-09-13 at 9.59.33 AM.png"/>
          <p:cNvPicPr/>
          <p:nvPr/>
        </p:nvPicPr>
        <p:blipFill>
          <a:blip r:embed="rId3"/>
          <a:stretch/>
        </p:blipFill>
        <p:spPr>
          <a:xfrm>
            <a:off x="6157800" y="3544920"/>
            <a:ext cx="245268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5"/>
          <p:cNvSpPr/>
          <p:nvPr/>
        </p:nvSpPr>
        <p:spPr>
          <a:xfrm>
            <a:off x="3352680" y="3962520"/>
            <a:ext cx="586764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ot being able to use words that are related to the subject as in trademarks, software and hardware create constraints on interoperability, innovation, discovery and creativity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2590920" y="0"/>
            <a:ext cx="65530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8"/>
          <p:cNvSpPr/>
          <p:nvPr/>
        </p:nvSpPr>
        <p:spPr>
          <a:xfrm>
            <a:off x="3048120" y="533520"/>
            <a:ext cx="6095880" cy="57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ivic Technologies and the Future of the Internet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Jonathan Zittrain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What does body surfing have to do with the internet?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Batman, problem solvers and core civic technologi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Wikipedia – Patrolling Civically </a:t>
            </a:r>
            <a:r>
              <a:rPr b="0" lang="en-US" sz="13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ang.wikipedia.org/wiki/Wikipedia:Administrators%27_noticeboard</a:t>
            </a:r>
            <a:r>
              <a:rPr b="0" lang="en-US" sz="1300" spc="-1" strike="noStrike">
                <a:solidFill>
                  <a:srgbClr val="222268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Apple 2 – first ever spreadshee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Computer Processes – pressing Ctrl Alt Delete on a PC to see . . 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00:48:04Z</dcterms:created>
  <dc:creator>Krystina Benson</dc:creator>
  <dc:description/>
  <dc:language>en-US</dc:language>
  <cp:lastModifiedBy>labuser</cp:lastModifiedBy>
  <dcterms:modified xsi:type="dcterms:W3CDTF">2010-09-13T04:34:43Z</dcterms:modified>
  <cp:revision>10</cp:revision>
  <dc:subject/>
  <dc:title>KCB202, Week 9 Tutorial</dc:title>
</cp:coreProperties>
</file>