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AE56E-B06B-419C-80DB-DDAF11EC4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67DE7-663A-4CAC-9CA3-74168D36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A1A47-E1DA-4335-847A-1DE00EEE0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32F3F-A4E6-4DDE-8BF9-4E3D700E4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A12A0-2706-41B8-BF77-B5A261FF1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3FE55-D90C-45C3-BE73-8F26792CE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BB7A2-BFAE-4B20-9C43-7CD06B2A7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3812A-27AB-47E0-9982-7FE5FA954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D5344-B345-485E-9E70-048910D65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C99E4-72FD-4940-B133-81C07384C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226B0-43FC-4BBC-9473-9F14C185C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C6F55-A5BA-4DEE-84DC-D0841D10D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E5267-9B55-431C-803F-8990329E2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ECD23-5D4F-4306-87BC-28418C1C9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347A6-5912-4676-BAAF-5550F532B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8474D-3915-499A-B1CF-A257FCBA6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EDBA0-6FF4-4019-84B2-E8C0C6896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96DBD-ACDD-4697-B3C9-EA93C2EDB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56A79-904E-4A88-90B7-C5E5D7C10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99D98-3802-4DA1-92D3-2CBFDFD88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0F55E-1F36-4631-8EF3-C2B79AD85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2293E-D9AE-4930-AC32-11695265D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AF8B7-9577-4716-94A1-ED4EDC625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32E78-A3B8-4141-B151-79DADDF37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E0CD9-8F03-436E-A598-E3D3BD3A3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4C154-B062-41D4-8C34-088447877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10CB8-0817-4218-8B92-31D1F6FD5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973BCF-5D7D-4F1C-838F-B0505CDF6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F03263-37E6-4091-BC9A-FE976CCFE3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71FA7A-C0FB-4616-81E0-CF33DC8D0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BDBEC8-86C5-41EA-BB0A-D44D3BB3C5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C9C43-10B7-424F-A917-FAF7E3D90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CB210-06E2-46B3-9A1C-30B9AA905A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F5CF-7C08-42F1-9E52-A33165CD6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CCE8F-13F6-422C-8DBB-75FC826EA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F278E-A5E5-4B7D-B5C2-0C2858959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2E2F50-96E2-47BF-9A9B-765F7A278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79D4D-A163-47C8-88CA-603460CDC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D764A-7932-457A-9523-2481D08D5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6C2C4-47BF-4AC9-B862-19D720B03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227D4-D432-4C09-8222-F324F8337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57BB73-F2BB-4246-A19B-9956245F65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2580FC-5D7C-4B6D-9572-0EEBDBC020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C6D0D-8065-4947-B777-7E04EA34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94CA9-B5F9-43EC-8520-042740C47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C7760-70AA-4B68-9F7E-65F1293B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EDD2-B011-464C-9998-BFFA497E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7012-AF12-4528-B92A-08D8497C6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7177-EB68-4274-94C0-E05037A9EF4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FA41-EF87-4300-A3B5-FB5A4EE5BA1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51B8-7644-48FC-A56E-2F18C92AE96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0786-C8BC-4935-B6DA-CA468EA57310}"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lackboard.qut.edu.au/webapps/blackboard/content/contentWrapper.jsp?content_id=_3237248_1&amp;displayName=Week+11&amp;course_id=_61201_1&amp;navItem=content&amp;href=contentWrapper.jsp?content_id=_3237248_1&amp;amp;displayName=Week+11:+World+of+Connections+2&amp;amp;course_id=_61201_1&amp;amp;navItem=content&amp;amp;href=http://www.edge.org/3rd_culture/lanier06/lanier06_index.html" TargetMode="External"/><Relationship Id="rId3" Type="http://schemas.openxmlformats.org/officeDocument/2006/relationships/hyperlink" Target="http://blackboard.qut.edu.au/webapps/blackboard/content/contentWrapper.jsp?content_id=_3237248_1&amp;displayName=Week+11&amp;course_id=_61201_1&amp;navItem=content&amp;href=contentWrapper.jsp?content_id=_3237248_1&amp;amp;displayName=Week+11:+World+of+Connections+2&amp;amp;course_id=_61201_1&amp;amp;navItem=content&amp;amp;href=http://www.edge.org/3rd_culture/lanier06/lanier06_index.html" TargetMode="External"/><Relationship Id="rId4" Type="http://schemas.openxmlformats.org/officeDocument/2006/relationships/hyperlink" Target="http://blackboard.qut.edu.au/webapps/blackboard/content/contentWrapper.jsp?content_id=_3237248_1&amp;displayName=Week+11&amp;course_id=_61201_1&amp;navItem=content&amp;href=https://qutvirtual.qut.edu.au/portal/pls/portal/cmd_request_p.show_item?p_item_id=169768"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2514240"/>
            <a:ext cx="73152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300" spc="-1" strike="noStrike">
                <a:solidFill>
                  <a:srgbClr val="000000"/>
                </a:solidFill>
                <a:latin typeface="Arial"/>
              </a:rPr>
              <a:t>World of Connections 2</a:t>
            </a:r>
            <a:endParaRPr b="0" lang="en-US" sz="7300" spc="-1" strike="noStrike">
              <a:solidFill>
                <a:srgbClr val="000000"/>
              </a:solidFill>
              <a:latin typeface="Arial"/>
            </a:endParaRPr>
          </a:p>
        </p:txBody>
      </p:sp>
      <p:sp>
        <p:nvSpPr>
          <p:cNvPr id="167" name="PlaceHolder 2"/>
          <p:cNvSpPr>
            <a:spLocks noGrp="1"/>
          </p:cNvSpPr>
          <p:nvPr>
            <p:ph type="subTitle"/>
          </p:nvPr>
        </p:nvSpPr>
        <p:spPr>
          <a:xfrm>
            <a:off x="3885840" y="5409720"/>
            <a:ext cx="4994280" cy="1295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ek 11 Tutorial – The Hive M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Krystina.Benson@qut.edu.au</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90" name="PlaceHolder 2"/>
          <p:cNvSpPr>
            <a:spLocks noGrp="1"/>
          </p:cNvSpPr>
          <p:nvPr>
            <p:ph/>
          </p:nvPr>
        </p:nvSpPr>
        <p:spPr>
          <a:xfrm>
            <a:off x="455400" y="1600200"/>
            <a:ext cx="8226360" cy="4525920"/>
          </a:xfrm>
          <a:prstGeom prst="rect">
            <a:avLst/>
          </a:prstGeom>
          <a:noFill/>
          <a:ln w="0">
            <a:noFill/>
          </a:ln>
        </p:spPr>
        <p:txBody>
          <a:bodyPr anchor="t">
            <a:normAutofit fontScale="94000"/>
          </a:bodyPr>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ome authors […] have suggested that we have experienced a shift away from a mass society to a new kind of network society: from densely knit urban communities that are isolated from each other but organized under the umbrella of a the nation-state, to a society comprised of diffused individuals operating in small sparsely-knit communities not bound by location but interconnected by networks” (608)</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ge 609 – First, in a public…</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nodocentrism constructs a social reality in which nodes can only </a:t>
            </a:r>
            <a:r>
              <a:rPr b="0" i="1" lang="en-US" sz="2100" spc="-1" strike="noStrike">
                <a:solidFill>
                  <a:srgbClr val="000000"/>
                </a:solidFill>
                <a:latin typeface="Arial"/>
              </a:rPr>
              <a:t> see</a:t>
            </a:r>
            <a:r>
              <a:rPr b="0" lang="en-US" sz="2100" spc="-1" strike="noStrike">
                <a:solidFill>
                  <a:srgbClr val="000000"/>
                </a:solidFill>
                <a:latin typeface="Arial"/>
              </a:rPr>
              <a:t> other nodes” (612)</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in short, the instability of paranodal space is what animates the network, and to attempt to render the paranodal space invisible is to arrive at less, not more, complete explanations of the network as a social reality” (612) (HOW does this relate to Lanier?)</a:t>
            </a: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TextBox 3"/>
          <p:cNvSpPr/>
          <p:nvPr/>
        </p:nvSpPr>
        <p:spPr>
          <a:xfrm>
            <a:off x="6781680" y="64882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Draw up a master plan on how to promote the next Brisbane Festival to inter-state visitors listing potential audiences, means of communication, sponsorship, schedules, etc. You may refer to this year’s festival as a guide www.brisbanefestival.com.au/iPhone-App/0,40,346,040.aspx.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would you plan the new media campaign for a specific event in the festiv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use new media to mobilise a certain number of people (say 1,000) to action over a cause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example - World Peace, Global Warming, Aid, choose your cause</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set out instructions as a group for getting from QUT, KG to Hervey Bay for a budget of $50 per person</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p:txBody>
      </p:sp>
      <p:sp>
        <p:nvSpPr>
          <p:cNvPr id="16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s Revie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the hive mi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y consultation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 1 Required Readings</a:t>
            </a:r>
            <a:endParaRPr b="0" lang="en-US" sz="3200" spc="-1" strike="noStrike">
              <a:solidFill>
                <a:srgbClr val="000000"/>
              </a:solidFill>
              <a:latin typeface="Arial"/>
            </a:endParaRPr>
          </a:p>
        </p:txBody>
      </p:sp>
      <p:sp>
        <p:nvSpPr>
          <p:cNvPr id="17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u="sng">
                <a:solidFill>
                  <a:srgbClr val="6b612b"/>
                </a:solidFill>
                <a:uFillTx/>
                <a:latin typeface="Arial"/>
                <a:hlinkClick r:id="rId2"/>
              </a:rPr>
              <a:t>Digital</a:t>
            </a:r>
            <a:r>
              <a:rPr b="0" lang="en-US" sz="2400" spc="-1" strike="noStrike" u="sng">
                <a:solidFill>
                  <a:srgbClr val="6b612b"/>
                </a:solidFill>
                <a:uFillTx/>
                <a:latin typeface="Arial"/>
                <a:hlinkClick r:id="rId3"/>
              </a:rPr>
              <a:t> Maoism: the Hazards of the New Online Collectivism</a:t>
            </a:r>
            <a:r>
              <a:rPr b="1" lang="en-US" sz="2400" spc="-1" strike="noStrike">
                <a:solidFill>
                  <a:srgbClr val="000000"/>
                </a:solidFill>
                <a:latin typeface="Arial"/>
              </a:rPr>
              <a:t> </a:t>
            </a:r>
            <a:r>
              <a:rPr b="0" lang="en-US" sz="2400" spc="-1" strike="noStrike">
                <a:solidFill>
                  <a:srgbClr val="000000"/>
                </a:solidFill>
                <a:latin typeface="Arial"/>
              </a:rPr>
              <a:t> by Jaron Lanier, June 2006, The Ed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0" lang="en-US" sz="2400" spc="-1" strike="noStrike" u="sng">
                <a:solidFill>
                  <a:srgbClr val="6b612b"/>
                </a:solidFill>
                <a:uFillTx/>
                <a:latin typeface="Arial"/>
                <a:hlinkClick r:id="rId4"/>
              </a:rPr>
              <a:t>The Limits of Networks as Models for Organising the Social</a:t>
            </a:r>
            <a:r>
              <a:rPr b="1" lang="en-US" sz="2400" spc="-1" strike="noStrike">
                <a:solidFill>
                  <a:srgbClr val="000000"/>
                </a:solidFill>
                <a:latin typeface="Arial"/>
              </a:rPr>
              <a:t> </a:t>
            </a:r>
            <a:r>
              <a:rPr b="0" lang="en-US" sz="2400" spc="-1" strike="noStrike">
                <a:solidFill>
                  <a:srgbClr val="000000"/>
                </a:solidFill>
                <a:latin typeface="Arial"/>
              </a:rPr>
              <a:t>by Ulises A. Mejias, 2010,   </a:t>
            </a:r>
            <a:r>
              <a:rPr b="0" i="1" lang="en-US" sz="2400" spc="-1" strike="noStrike">
                <a:solidFill>
                  <a:srgbClr val="000000"/>
                </a:solidFill>
                <a:latin typeface="Arial"/>
              </a:rPr>
              <a:t>New Media &amp; Society, volume 12, issue 4, pp. 603-617.</a:t>
            </a: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Wiki say… http://en.wikipedia.org/wiki/Hive_mind</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Google Images say: http://www.google.com.au/images?q=hive+mind&amp;oe=utf-8&amp;rls=org.mozilla:en-GB:official&amp;client=firefox-a&amp;um=1&amp;ie=UTF-8&amp;source=univ&amp;ei=HiCpTLOlEYKiuQOo6sXNAw&amp;sa=X&amp;oi=image_result_group&amp;ct=title&amp;resnum=4&amp;ved=0CDkQsAQwAw&amp;biw=1280&amp;bih=645</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TED.com say: http://www.ted.com/themes/the_rise_of_collaboration.html</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e talking about: “At the very least it’s a success at revealing what the online people with the most determination and time on their hands are thinking”</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Sometimes loosely structured collective activities yield continuous improvements and sometimes they don’t”</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In some cases I have noticed specific texts get cloned form original sites at universities or labs onto wiki pages And when that happens, each text loses part of its value” – WHY?</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he beauty of the Internet is that it connects people. The value is in the other people. If we start to believe that the Internet itself is an entity that has something to say, we’re devaluing those people and making ourselves into idiot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6"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8"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inux programmers are not anonymous and in fact personal glory is part of the motivational engine that keeps such enterprises in motion. But there are similarities, and the lack of a coherent voice or design sensibility in an esthetic sense is one negative quality of both open source software and the Wikipedia”</a:t>
            </a:r>
            <a:endParaRPr b="0" lang="en-US" sz="2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 back to Lessig's and Wark's work and compare their arguments to Lanier's. Now, which makes better sense to you? Why? (Week 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Gift Economy, Hybrid Economics, Smart Mobs . .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Box 5"/>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Jaron Lanier’s wiki page now say about his film maker status?</a:t>
            </a:r>
            <a:endParaRPr b="0" lang="en-US" sz="2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ogle Instant and Search Engine Optimisation (SEO) changes: </a:t>
            </a:r>
            <a:r>
              <a:rPr b="0" lang="en-US" sz="2000" spc="-1" strike="noStrike">
                <a:solidFill>
                  <a:srgbClr val="000000"/>
                </a:solidFill>
                <a:latin typeface="Arial"/>
              </a:rPr>
              <a:t>www.2600.com/googleblack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hive mind stupid and bor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pay attention to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have concerns? </a:t>
            </a:r>
            <a:endParaRPr b="0" lang="en-US" sz="20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2"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84" name="PlaceHolder 2"/>
          <p:cNvSpPr>
            <a:spLocks noGrp="1"/>
          </p:cNvSpPr>
          <p:nvPr>
            <p:ph/>
          </p:nvPr>
        </p:nvSpPr>
        <p:spPr>
          <a:xfrm>
            <a:off x="455400" y="1600200"/>
            <a:ext cx="8226360" cy="4525920"/>
          </a:xfrm>
          <a:prstGeom prst="rect">
            <a:avLst/>
          </a:prstGeom>
          <a:noFill/>
          <a:ln w="0">
            <a:noFill/>
          </a:ln>
        </p:spPr>
        <p:txBody>
          <a:bodyPr anchor="t">
            <a:normAutofit fontScale="67000"/>
          </a:bodyPr>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a network society?</a:t>
            </a: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network is a society whose social structure is made of networks powered by microelectronics-based information and communication technologies (Castells, 2004, 3)</a:t>
            </a: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he network society is made up of complex social networks. The infrastructure of this Social Network is made of computer networks that connect people and organisations. ‘Just as a computer network is a set of machines connected by a set of wires, a social network is a set of machines connected by a set of people (or organisations or other social entities) connected by a set of socially meaningful relationships” (Wellman, 2004) </a:t>
            </a: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nodocentrism?</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 epistemology based on the exclusionary reality of nodes”</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paranodality?</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model for disindentifying from the network”</a:t>
            </a: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5"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8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epistemology?</a:t>
            </a:r>
            <a:endParaRPr b="0" lang="en-US" sz="2100" spc="-1" strike="noStrike">
              <a:solidFill>
                <a:srgbClr val="000000"/>
              </a:solidFill>
              <a:latin typeface="Arial"/>
            </a:endParaRPr>
          </a:p>
          <a:p>
            <a:pPr lvl="2" marL="74304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way of understanding and explaining how we know what we know (Crotty, 1998, 4).</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a node?</a:t>
            </a:r>
            <a:endParaRPr b="0" lang="en-US" sz="2100" spc="-1" strike="noStrike">
              <a:solidFill>
                <a:srgbClr val="000000"/>
              </a:solidFill>
              <a:latin typeface="Arial"/>
            </a:endParaRPr>
          </a:p>
          <a:p>
            <a:pPr lvl="2" marL="74304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nection, link, in/out point, tie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nodocentrism?</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 epistemology based on the exclusionary reality of node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paranodality?</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model for disindentifying from the network”</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8"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0:40:14Z</dcterms:created>
  <dc:creator>Krystina Benson</dc:creator>
  <dc:description/>
  <dc:language>en-US</dc:language>
  <cp:lastModifiedBy>Krystina Benson</cp:lastModifiedBy>
  <dcterms:modified xsi:type="dcterms:W3CDTF">2010-10-04T02:53:00Z</dcterms:modified>
  <cp:revision>6</cp:revision>
  <dc:subject/>
  <dc:title>World of Connections 2</dc:title>
</cp:coreProperties>
</file>