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1A59-0DC8-4363-9920-A923D01E15B0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A04F-40FF-4B13-8275-012C0A526B7D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D48B-510A-42AF-B2F5-65CC7DDD97C3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463B-DC67-4E57-87CB-2DCCA9F00177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8002-34CE-4EB2-AEC9-7E9A0A863A97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3F16-9725-4F37-8122-103C16627E0D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162C-72DA-41D3-A4E8-E544DA7609A1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D4BA-74C0-49EE-9950-C3EE96871BBF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DAC4-07E2-45B0-9C76-0514A4201AB2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8BCB-41A3-4704-9CF4-F204D21A6109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92E9-6AF3-4490-A5A4-74A9AF388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84139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040" y="4011120"/>
            <a:ext cx="84139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2EF7-5502-408E-8E7B-D153B2DE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400" y="14479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040" y="40111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400" y="40111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F845-FE8C-4F9B-AC75-6A2A342B1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270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9760" y="1447920"/>
            <a:ext cx="270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4840" y="1447920"/>
            <a:ext cx="270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040" y="4011120"/>
            <a:ext cx="270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9760" y="4011120"/>
            <a:ext cx="270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4840" y="4011120"/>
            <a:ext cx="270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974A-8E14-4481-9204-3C8A46830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6541-1B53-4B35-8A52-0A5E934EA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6A1D-0DE6-4648-84D6-379E5F85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D076-9797-4C2E-99B8-43D79097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410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400" y="1447920"/>
            <a:ext cx="410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CF5E-6A16-4DCB-9E01-5B4A5266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B81E-7A27-4D63-96E4-83432D2D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65040" y="75960"/>
            <a:ext cx="8413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6E6F-5264-4B31-AAFA-6588FBE9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447920"/>
            <a:ext cx="410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65040" y="40111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6083-5338-4750-8481-98257638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6DE3-449C-4BCA-B3FD-4368052F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410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400" y="14479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6400" y="40111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1A8A-7517-4946-9F48-565B4F3F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400" y="14479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5040" y="4011120"/>
            <a:ext cx="84139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87A5-AEBA-433B-9F20-17E9CF9E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84139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5040" y="4011120"/>
            <a:ext cx="84139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F4B1-4C06-47D0-9A79-DDD66B26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400" y="14479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65040" y="40111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6400" y="40111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1CFE-D4F4-4175-9624-F20709F72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270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09760" y="1447920"/>
            <a:ext cx="270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4840" y="1447920"/>
            <a:ext cx="270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65040" y="4011120"/>
            <a:ext cx="270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09760" y="4011120"/>
            <a:ext cx="270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4840" y="4011120"/>
            <a:ext cx="270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9CC1-E7F1-4061-9BC7-FD71DFA57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3FCD-F4B8-44CC-B37D-67DDF674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410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400" y="1447920"/>
            <a:ext cx="410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6794-C546-44CA-A297-ED6553F0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C4E9-5582-41F9-A8A9-7F24C1AB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5040" y="75960"/>
            <a:ext cx="8413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23D3-41EC-4DF4-A901-FBC5C6DB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400" y="1447920"/>
            <a:ext cx="410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040" y="40111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2034-8609-4C4E-9738-B89DA151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410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400" y="14479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400" y="40111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DA8A-A1B0-4057-9499-EDA49152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400" y="14479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040" y="4011120"/>
            <a:ext cx="84139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FC54-B6E3-426E-ACAD-7E7BEF7B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8" descr="Picture6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3501"/>
              </a:spcBef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3501"/>
              </a:spcBef>
              <a:buClr>
                <a:srgbClr val="fdf7d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spcBef>
                <a:spcPts val="3501"/>
              </a:spcBef>
              <a:buClr>
                <a:srgbClr val="fdf7d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60080" indent="-194040">
              <a:spcBef>
                <a:spcPts val="3501"/>
              </a:spcBef>
              <a:buClr>
                <a:srgbClr val="fdf7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48520" indent="-194040">
              <a:spcBef>
                <a:spcPts val="3501"/>
              </a:spcBef>
              <a:buClr>
                <a:srgbClr val="fdf7d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748520" indent="-194040">
              <a:spcBef>
                <a:spcPts val="35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748520" indent="-194040">
              <a:spcBef>
                <a:spcPts val="35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82520" y="6580080"/>
            <a:ext cx="146376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0FAC-AA79-43A2-835A-9C0750D5BF2A}" type="datetime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828800" y="6580080"/>
            <a:ext cx="548640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679880" y="6590880"/>
            <a:ext cx="128124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4D7F-AD88-4577-A840-48AEFA835656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5" descr="Picture5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3501"/>
              </a:spcBef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3501"/>
              </a:spcBef>
              <a:buClr>
                <a:srgbClr val="fdf7d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spcBef>
                <a:spcPts val="3501"/>
              </a:spcBef>
              <a:buClr>
                <a:srgbClr val="fdf7d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60080" indent="-194040">
              <a:spcBef>
                <a:spcPts val="3501"/>
              </a:spcBef>
              <a:buClr>
                <a:srgbClr val="fdf7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48520" indent="-194040">
              <a:spcBef>
                <a:spcPts val="3501"/>
              </a:spcBef>
              <a:buClr>
                <a:srgbClr val="fdf7d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748520" indent="-194040">
              <a:spcBef>
                <a:spcPts val="35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748520" indent="-194040">
              <a:spcBef>
                <a:spcPts val="35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82520" y="6570720"/>
            <a:ext cx="146376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C6C7-6FF1-45CF-8FF2-DB329288EC65}" type="datetime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1817280" y="6580080"/>
            <a:ext cx="548820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679880" y="6568560"/>
            <a:ext cx="128124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3AF3-1F54-4C4F-A8C3-2160FB18F77D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4"/>
          <p:cNvSpPr/>
          <p:nvPr/>
        </p:nvSpPr>
        <p:spPr>
          <a:xfrm>
            <a:off x="182520" y="6570720"/>
            <a:ext cx="14637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E4C3-FA15-4FAA-BD32-6C761020C8CA}" type="datetime">
              <a:rPr b="0" lang="en-AU" sz="12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16"/>
          <p:cNvSpPr/>
          <p:nvPr/>
        </p:nvSpPr>
        <p:spPr>
          <a:xfrm>
            <a:off x="7680240" y="6568920"/>
            <a:ext cx="12812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D459-22D6-4E7F-8C32-529DE4D4DB80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352680"/>
            <a:ext cx="8869320" cy="1470240"/>
          </a:xfrm>
          <a:prstGeom prst="rect">
            <a:avLst/>
          </a:prstGeom>
          <a:gradFill rotWithShape="0">
            <a:gsLst>
              <a:gs pos="0">
                <a:srgbClr val="cc3300">
                  <a:alpha val="80000"/>
                </a:srgbClr>
              </a:gs>
              <a:gs pos="100000">
                <a:srgbClr val="777777">
                  <a:alpha val="80000"/>
                </a:srgbClr>
              </a:gs>
            </a:gsLst>
            <a:lin ang="10800000"/>
          </a:gradFill>
          <a:ln w="0">
            <a:noFill/>
          </a:ln>
        </p:spPr>
        <p:txBody>
          <a:bodyPr lIns="365760" rIns="365760" tIns="365760" bIns="365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yond First Worl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-360" y="4966920"/>
            <a:ext cx="8869320" cy="747720"/>
          </a:xfrm>
          <a:prstGeom prst="rect">
            <a:avLst/>
          </a:prstGeom>
          <a:gradFill rotWithShape="0">
            <a:gsLst>
              <a:gs pos="0">
                <a:srgbClr val="000000">
                  <a:alpha val="80000"/>
                </a:srgbClr>
              </a:gs>
              <a:gs pos="100000">
                <a:srgbClr val="777777">
                  <a:alpha val="80000"/>
                </a:srgbClr>
              </a:gs>
            </a:gsLst>
            <a:lin ang="10800000"/>
          </a:gradFill>
          <a:ln w="0">
            <a:noFill/>
          </a:ln>
        </p:spPr>
        <p:txBody>
          <a:bodyPr lIns="182880" rIns="365760" tIns="182880" bIns="18288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ffffff"/>
                </a:solidFill>
                <a:latin typeface="Arial"/>
              </a:rPr>
              <a:t>Week 12</a:t>
            </a:r>
            <a:br>
              <a:rPr sz="2000"/>
            </a:b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Krystina.Benson@qut.edu.a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end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ki Self Assessmen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l Assessment Question ti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in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iki Self-Assessment Exerci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 the wiki and have the CRA sheet beside you (from blackboard, under assignments, 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sign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 the class’s wiki to the other KCB202 classes or educational wikis from elsewhere within wikispa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e at least 2 positive and 2 constructive criticis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the assessment criteria, give an overall grade /1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prepared to discuss your marks for each criteria and your comments which should justify the gra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iki Self-Assessment Exerci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236520" y="1339920"/>
            <a:ext cx="869796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iscussion Tim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one let’s discu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need to discuss and agree upon the areas of greatest diverge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oint of this exercise is primarily to hone the skill of self-assessment, so let’s focus on th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eek 1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Only consultations during tutorial time next week</a:t>
            </a:r>
            <a:endParaRPr b="1" lang="en-US" sz="5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No readings or Lecture</a:t>
            </a:r>
            <a:endParaRPr b="1" lang="en-US" sz="5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999"/>
              </a:spcBef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Arial"/>
              </a:rPr>
              <a:t>Case Study Due: </a:t>
            </a:r>
            <a:r>
              <a:rPr b="0" lang="en-AU" sz="2900" spc="-1" strike="noStrike">
                <a:solidFill>
                  <a:srgbClr val="ffffff"/>
                </a:solidFill>
                <a:latin typeface="Arial"/>
              </a:rPr>
              <a:t>Friday, 22 October.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Via assignment minder, C.O.B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ead the unit outli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o </a:t>
            </a:r>
            <a:r>
              <a:rPr b="1" lang="en-AU" sz="2800" spc="-1" strike="noStrike" u="sng">
                <a:solidFill>
                  <a:srgbClr val="ffffff"/>
                </a:solidFill>
                <a:uFillTx/>
                <a:latin typeface="Arial"/>
              </a:rPr>
              <a:t>all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of the reading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heck your understanding of the assign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Look at the marking she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emember, it’s a case study report not an ess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inal Le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glish on the web 29.5 % and fall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nry Li – insight into this on Thursd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’s our last formal tutorial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-343080">
              <a:spcBef>
                <a:spcPts val="3501"/>
              </a:spcBef>
              <a:buClr>
                <a:srgbClr val="ffff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op by next week for consultations at the beginning of tutorial if you want to discuss the case stud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ffff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 always email if you have questions . . 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Handwriting - Dakota"/>
                <a:ea typeface="Handwriting - Dakota"/>
              </a:rPr>
              <a:t>Warm wishes! </a:t>
            </a: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0T02:24:14Z</dcterms:created>
  <dc:creator>www.templateselections.com</dc:creator>
  <dc:description/>
  <dc:language>en-US</dc:language>
  <cp:lastModifiedBy>Krystina Benson</cp:lastModifiedBy>
  <dcterms:modified xsi:type="dcterms:W3CDTF">2010-10-11T01:16:14Z</dcterms:modified>
  <cp:revision>1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mplate design by">
    <vt:lpwstr>templateselections.com</vt:lpwstr>
  </property>
  <property fmtid="{D5CDD505-2E9C-101B-9397-08002B2CF9AE}" pid="3" name="Template license">
    <vt:lpwstr>http://creativecommons.org/licenses/by-sa/2.5/</vt:lpwstr>
  </property>
  <property fmtid="{D5CDD505-2E9C-101B-9397-08002B2CF9AE}" pid="4" name="Template photograph credits">
    <vt:lpwstr>"`gliding :P" by v1nz</vt:lpwstr>
  </property>
  <property fmtid="{D5CDD505-2E9C-101B-9397-08002B2CF9AE}" pid="5" name="Template photograph license">
    <vt:lpwstr>http://creativecommons.org/licenses/by/2.0/</vt:lpwstr>
  </property>
  <property fmtid="{D5CDD505-2E9C-101B-9397-08002B2CF9AE}" pid="6" name="Template photograph link">
    <vt:lpwstr>http://www.flickr.com/photos/v1nz/214529646/</vt:lpwstr>
  </property>
</Properties>
</file>