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038D-3CDD-4416-A4B3-5435F69F554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ACFD-3B44-4F8A-97BC-FE9D0F09E40F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F9E8-41C4-47B8-A4E3-DD906358156A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E5BE-7633-4034-BA2B-03F3AB0F7993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4305-18AA-4485-A92F-3D5123A4F0A9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DA4C-801F-4196-801D-01E1128A99EA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1FC6-2278-4A2B-AABD-E480571C0C4A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3860-929F-4D98-B527-1F4609937B29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B507-A9C6-4EDB-98CD-745DE5904AA8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BFAA-7B52-423A-B6A8-5368EA2EF175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FEB0-44B6-4E1E-BFFC-E4392CF7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8413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4011120"/>
            <a:ext cx="8413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E08E-22CF-4F3C-9D41-24968907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40111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400" y="40111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A9E8-5755-44F7-9CB8-E66FEE74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9760" y="14479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4840" y="14479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40111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9760" y="40111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4840" y="40111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C0FC-D252-4E91-97C6-EBAEF96F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957E-1516-4A8C-BB39-17D625F4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1B12-621E-49DF-BB91-4363C774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CC66-9626-48E4-A7E0-176C1A8F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0AFD-6581-4389-A87C-5CA7E8D9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752F-71F6-4643-89CE-665FE074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65040" y="75960"/>
            <a:ext cx="8413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82D5-BEF1-47BF-B804-089B3AFB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65040" y="40111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6A9A-2DCC-4136-B034-E44A8DAD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17D5-3397-49CD-9F9D-F733C13C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400" y="40111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B7AD-6C38-4CB4-AEDC-82423E6D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5040" y="4011120"/>
            <a:ext cx="8413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B3DB-4E36-468A-860A-51823728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8413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040" y="4011120"/>
            <a:ext cx="8413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A7A4-DBD9-4B82-B907-1DC462FF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65040" y="40111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400" y="40111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0789-F321-4F0F-A02B-829BD3DC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09760" y="14479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4840" y="14479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5040" y="40111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09760" y="40111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4840" y="40111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9E51-439B-4234-B130-2A82F008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1CDF-5E89-4380-9A47-0BA46434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E825-6CC6-472B-AD22-2F12F627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C60-49C9-46CE-A66A-5B89D82B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75960"/>
            <a:ext cx="8413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B597-A164-4786-8C80-ED6AF302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40111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1DF4-D6C1-43EF-A846-12DFC8B1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400" y="40111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20DA-1CEC-4A87-8B7E-0A985748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4011120"/>
            <a:ext cx="8413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DEA9-3FEA-4E33-B349-56CBB743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8" descr="Picture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3501"/>
              </a:spcBef>
              <a:buClr>
                <a:srgbClr val="fdf7d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3501"/>
              </a:spcBef>
              <a:buClr>
                <a:srgbClr val="fdf7d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60080" indent="-194040">
              <a:spcBef>
                <a:spcPts val="3501"/>
              </a:spcBef>
              <a:buClr>
                <a:srgbClr val="fdf7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48520" indent="-194040">
              <a:spcBef>
                <a:spcPts val="3501"/>
              </a:spcBef>
              <a:buClr>
                <a:srgbClr val="fdf7d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48520" indent="-194040">
              <a:spcBef>
                <a:spcPts val="35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48520" indent="-194040">
              <a:spcBef>
                <a:spcPts val="35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82520" y="6580080"/>
            <a:ext cx="146376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AB1C-379F-4A22-9A2F-D5F99C76CDF7}" type="datetime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828800" y="6580080"/>
            <a:ext cx="548640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79880" y="6590880"/>
            <a:ext cx="128124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CCA7-9BCC-4DBB-B780-54290C41567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5" descr="Picture5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3501"/>
              </a:spcBef>
              <a:buClr>
                <a:srgbClr val="fdf7d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3501"/>
              </a:spcBef>
              <a:buClr>
                <a:srgbClr val="fdf7d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60080" indent="-194040">
              <a:spcBef>
                <a:spcPts val="3501"/>
              </a:spcBef>
              <a:buClr>
                <a:srgbClr val="fdf7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48520" indent="-194040">
              <a:spcBef>
                <a:spcPts val="3501"/>
              </a:spcBef>
              <a:buClr>
                <a:srgbClr val="fdf7d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48520" indent="-194040">
              <a:spcBef>
                <a:spcPts val="35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48520" indent="-194040">
              <a:spcBef>
                <a:spcPts val="35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82520" y="6570720"/>
            <a:ext cx="146376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73D3-0F71-42EA-BB8E-B83910E4F63F}" type="datetime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1817280" y="6580080"/>
            <a:ext cx="548820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679880" y="6568560"/>
            <a:ext cx="128124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8E83-A966-4EC8-A10C-A79CE4F5F3D1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4"/>
          <p:cNvSpPr/>
          <p:nvPr/>
        </p:nvSpPr>
        <p:spPr>
          <a:xfrm>
            <a:off x="182520" y="6570720"/>
            <a:ext cx="14637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6BBC-14F5-4CB6-83BD-CD44EFBAA915}" type="datetime">
              <a:rPr b="0" lang="en-AU" sz="12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7680240" y="6568920"/>
            <a:ext cx="12812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7045-CF3E-45D8-B170-B3F5175E4BBC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352680"/>
            <a:ext cx="8869320" cy="1470240"/>
          </a:xfrm>
          <a:prstGeom prst="rect">
            <a:avLst/>
          </a:prstGeom>
          <a:gradFill rotWithShape="0">
            <a:gsLst>
              <a:gs pos="0">
                <a:srgbClr val="cc3300">
                  <a:alpha val="80000"/>
                </a:srgbClr>
              </a:gs>
              <a:gs pos="100000">
                <a:srgbClr val="777777">
                  <a:alpha val="80000"/>
                </a:srgbClr>
              </a:gs>
            </a:gsLst>
            <a:lin ang="10800000"/>
          </a:gradFill>
          <a:ln w="0">
            <a:noFill/>
          </a:ln>
        </p:spPr>
        <p:txBody>
          <a:bodyPr lIns="365760" rIns="365760" tIns="365760" bIns="365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yond First Worl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-360" y="4966920"/>
            <a:ext cx="8869320" cy="747720"/>
          </a:xfrm>
          <a:prstGeom prst="rect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777777">
                  <a:alpha val="80000"/>
                </a:srgbClr>
              </a:gs>
            </a:gsLst>
            <a:lin ang="10800000"/>
          </a:gradFill>
          <a:ln w="0">
            <a:noFill/>
          </a:ln>
        </p:spPr>
        <p:txBody>
          <a:bodyPr lIns="182880" rIns="365760" tIns="182880" bIns="18288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ffffff"/>
                </a:solidFill>
                <a:latin typeface="Arial"/>
              </a:rPr>
              <a:t>Week 12</a:t>
            </a:r>
            <a:br>
              <a:rPr sz="2000"/>
            </a:b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Krystina.Benson@qut.edu.a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nd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ki Self Assessmen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 Assessment Question 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in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ki Self-Assessment Exerci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the wiki and have the CRA sheet beside you (from blackboard, under assignments,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sig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the class’s wiki to the other KCB202 classes or educational wikis from elsewhere within wikispa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at least 2 positive and 2 constructive criticis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assessment criteria, give an overall grade /1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prepared to discuss your marks for each criteria and your comments which should justify the gr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ki Self-Assessment Exerci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236520" y="1339920"/>
            <a:ext cx="86979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iscussion Ti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one let’s discu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need to discuss and agree upon the areas of greatest diverge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int of this exercise is primarily to hone the skill of self-assessment, so let’s focus on th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ek 1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Only consultations during tutorial time next week</a:t>
            </a: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No readings or Lecture</a:t>
            </a: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999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Case Study Due: </a:t>
            </a:r>
            <a:r>
              <a:rPr b="0" lang="en-AU" sz="2900" spc="-1" strike="noStrike">
                <a:solidFill>
                  <a:srgbClr val="ffffff"/>
                </a:solidFill>
                <a:latin typeface="Arial"/>
              </a:rPr>
              <a:t>Friday, 22 October.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Via assignment minder, C.O.B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ad the unit outl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1" lang="en-AU" sz="28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of the readin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heck your understanding of the assign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ook at the marking she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member, it’s a case study report not an ess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nal L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lish on the web 29.5 % and fal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nry Li – insight into this on Thurs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’s our last formal tutorial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-343080">
              <a:spcBef>
                <a:spcPts val="3501"/>
              </a:spcBef>
              <a:buClr>
                <a:srgbClr val="ffff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op by next week for consultations at the beginning of tutorial if you want to discuss the case stu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ffff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always email if you have questions . . 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Handwriting - Dakota"/>
                <a:ea typeface="Handwriting - Dakota"/>
              </a:rPr>
              <a:t>Warm wishes! </a:t>
            </a: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02:24:14Z</dcterms:created>
  <dc:creator>www.templateselections.com</dc:creator>
  <dc:description/>
  <dc:language>en-US</dc:language>
  <cp:lastModifiedBy>Krystina Benson</cp:lastModifiedBy>
  <dcterms:modified xsi:type="dcterms:W3CDTF">2010-10-11T01:16:14Z</dcterms:modified>
  <cp:revision>1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 design by">
    <vt:lpwstr>templateselections.com</vt:lpwstr>
  </property>
  <property fmtid="{D5CDD505-2E9C-101B-9397-08002B2CF9AE}" pid="3" name="Template license">
    <vt:lpwstr>http://creativecommons.org/licenses/by-sa/2.5/</vt:lpwstr>
  </property>
  <property fmtid="{D5CDD505-2E9C-101B-9397-08002B2CF9AE}" pid="4" name="Template photograph credits">
    <vt:lpwstr>"`gliding :P" by v1nz</vt:lpwstr>
  </property>
  <property fmtid="{D5CDD505-2E9C-101B-9397-08002B2CF9AE}" pid="5" name="Template photograph license">
    <vt:lpwstr>http://creativecommons.org/licenses/by/2.0/</vt:lpwstr>
  </property>
  <property fmtid="{D5CDD505-2E9C-101B-9397-08002B2CF9AE}" pid="6" name="Template photograph link">
    <vt:lpwstr>http://www.flickr.com/photos/v1nz/214529646/</vt:lpwstr>
  </property>
</Properties>
</file>