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874-ABE6-4C7F-87B0-5079331C204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CFE-D354-46E2-86F0-84C4ECB49DD8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5DCE-03D4-4FBB-AFA4-4F2790C8F03F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B8E-5D8F-4F52-A7A8-0F4E87829C84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24A-F619-4347-8720-EA63C3E6331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224-B4AD-4B3C-B133-2F967DBED4A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F731-2C12-4D2E-A03D-38E0ECE27D9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669C-3B02-4DC2-AB15-F5431620D03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BE7A-ABAC-4916-9DCC-4E0F56D9FEC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A36-6668-4040-A219-F23C7A8EFAF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6DD-ECC0-40C0-ABC7-4E0C0E71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888-9144-47BE-9297-3861DA56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0F7-5958-45B0-B3C2-D4CD5C97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1A4-FDE2-4E3E-857F-45A3E639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0205-75EF-4193-9EA4-66239790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C7D3-368E-44B7-B05D-183D4699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7017-CD19-4481-8AC3-643EB1D3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D7D-D4F8-4E46-9BB2-53966466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9D7-E5D3-432D-9C23-67C4B081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EF19-8028-455A-B187-B4A6CEF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4399-7812-4219-A423-1CAF902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AD1-CAFD-4C58-B128-E4A5741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FBDF-775B-4E6F-9142-A6228E6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58C-3F97-4006-95F5-96EEACD0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BB3-FE3A-44E1-B5C7-EEAC6195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2FE6-7B8B-46A8-B0AC-AA3BDBCC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7696-E346-43C9-B9CC-C1CD992F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BF3-9A1A-4CD3-A5C3-6F5C5A6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8D9-7E8A-46EC-83EA-5AC4E57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8BB-58BF-4650-BB3F-1CFE8CB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09A-F747-4DE3-9662-1C1461B1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D1E-EAB9-464F-9F08-CDADC928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14F-7245-4A7F-A331-1A4AD86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7E7-842C-4FAE-A5FF-4FC6E86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Picture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520" y="6580080"/>
            <a:ext cx="146376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8643-6450-4F7F-BD20-841C07FB3116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580080"/>
            <a:ext cx="54864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79880" y="6590880"/>
            <a:ext cx="128124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E5B-CD14-487E-B4EE-113C339A5B1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Picture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DB4-F75E-414F-BB07-8D090BF5DA46}" type="datetime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817280" y="6580080"/>
            <a:ext cx="54882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9880" y="6568560"/>
            <a:ext cx="128124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0753-D8FA-414B-8FA5-5D8C9D2F53D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C31B-B77B-4F64-B31C-D04DAEBB2F07}" type="datetime">
              <a:rPr b="0" lang="en-AU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680240" y="6568920"/>
            <a:ext cx="1281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72AC-9A41-4052-A7C2-73547EDE586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352680"/>
            <a:ext cx="8869320" cy="1470240"/>
          </a:xfrm>
          <a:prstGeom prst="rect">
            <a:avLst/>
          </a:prstGeom>
          <a:gradFill rotWithShape="0">
            <a:gsLst>
              <a:gs pos="0">
                <a:srgbClr val="cc33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365760" rIns="365760" tIns="365760" bIns="365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yond First Worl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4966920"/>
            <a:ext cx="8869320" cy="74772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182880" rIns="365760" tIns="182880" bIns="18288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Week 12</a:t>
            </a:r>
            <a:br>
              <a:rPr sz="2000"/>
            </a:b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Krystina.Benson@qut.edu.a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 Self Assess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Assessment Question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wiki and have the CRA sheet beside you (from blackboard, under assignments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g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the class’s wiki to the other KCB202 classes or educational wikis from elsewhere within wikispa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t least 2 positive and 2 constructive criticis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ssessment criteria, give an overall grade /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discuss your marks for each criteria and your comments which should justify the gr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36520" y="1339920"/>
            <a:ext cx="8697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cussion 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let’s discu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discuss and agree upon the areas of greatest di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 of this exercise is primarily to hone the skill of self-assessment, so let’s focus on 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ek 1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Only consultations during tutorial time next week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No readings or Lecture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Case Study Due: </a:t>
            </a: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Friday, 22 October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ia assignment minder, C.O.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 the unit 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of the read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heck your understanding of the assig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ok at the marking sh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, it’s a case study report not an ess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al L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on the web 29.5 % and fa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Li – insight into this on Thurs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our last formal tutorial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 by next week for consultations at the beginning of tutorial if you want to discuss the case stu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ways email if you have questions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andwriting - Dakota"/>
                <a:ea typeface="Handwriting - Dakota"/>
              </a:rPr>
              <a:t>Warm wishes! 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2:24:14Z</dcterms:created>
  <dc:creator>www.templateselections.com</dc:creator>
  <dc:description/>
  <dc:language>en-US</dc:language>
  <cp:lastModifiedBy>Krystina Benson</cp:lastModifiedBy>
  <dcterms:modified xsi:type="dcterms:W3CDTF">2010-10-11T01:16:14Z</dcterms:modified>
  <cp:revision>1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design by">
    <vt:lpwstr>templateselections.com</vt:lpwstr>
  </property>
  <property fmtid="{D5CDD505-2E9C-101B-9397-08002B2CF9AE}" pid="3" name="Template license">
    <vt:lpwstr>http://creativecommons.org/licenses/by-sa/2.5/</vt:lpwstr>
  </property>
  <property fmtid="{D5CDD505-2E9C-101B-9397-08002B2CF9AE}" pid="4" name="Template photograph credits">
    <vt:lpwstr>"`gliding :P" by v1nz</vt:lpwstr>
  </property>
  <property fmtid="{D5CDD505-2E9C-101B-9397-08002B2CF9AE}" pid="5" name="Template photograph license">
    <vt:lpwstr>http://creativecommons.org/licenses/by/2.0/</vt:lpwstr>
  </property>
  <property fmtid="{D5CDD505-2E9C-101B-9397-08002B2CF9AE}" pid="6" name="Template photograph link">
    <vt:lpwstr>http://www.flickr.com/photos/v1nz/214529646/</vt:lpwstr>
  </property>
</Properties>
</file>