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1564-1F9A-4882-AADF-125B1F07B9D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0BA0-BA79-460B-AD45-59D705C0A88F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856F-B53D-4BC7-987F-3D4E7756EDA3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407F-D51D-41B7-8BF8-C43B820D9D47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A3EF-C508-4DD7-9B28-8A47F7DFE972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1CEE-9E98-4147-8C2B-8FD271738C3C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BDA4-D99C-4060-B817-E734AB5F4EE0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051E-1CF4-4C3C-AE64-58F841B36180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1147-B0D2-475B-B33A-BDD392E69ED4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29CA-191B-4F2D-93B1-38B29BA13212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598-F7C5-4169-B190-73B28CFC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A90-81E3-4C8B-948B-540995AC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DC4-199F-4CA4-9445-54F12ED1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976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8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976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8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8F8-0D0B-4EE2-A5E3-A7198D2E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8745-32B0-42F2-A196-92919DC2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6536-9D89-427E-A7F5-656741D8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82C4-6401-4012-AEA5-42A68664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C871-F50D-4F0F-8EA7-06536D1B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4EF9-F209-452C-A75C-E8108762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75960"/>
            <a:ext cx="841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3CC1-69CF-406D-A106-AB20CF62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59A5-73B4-4190-A7B3-B6B03159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F93-52D1-4488-BFBA-36523041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4A3D-3BB4-4EBF-AD73-79D3E47F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578F-4F0E-4953-A46D-44BCF9F3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AE67-0702-4BBA-80BD-2012314E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2D1B-E9B7-4654-975F-85231F2C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976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4840" y="14479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976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4840" y="4011120"/>
            <a:ext cx="270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65C6-2475-450E-A11C-FEDB1D01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EBE-5907-477E-8428-4FCCCB06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3EE-C309-42F0-84BC-EB109571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C4A-70BC-4CCE-9D87-82E5471E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75960"/>
            <a:ext cx="841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6C4-27E4-4A17-9C78-72897CF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DF1-0400-4015-A15E-B288F888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40111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B0D-E1B6-411F-9872-3CF1EB6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47920"/>
            <a:ext cx="410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4011120"/>
            <a:ext cx="84139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27A-7887-4FA6-9411-0D78F74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" descr="Picture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3501"/>
              </a:spcBef>
              <a:buClr>
                <a:srgbClr val="fdf7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spcBef>
                <a:spcPts val="3501"/>
              </a:spcBef>
              <a:buClr>
                <a:srgbClr val="fdf7d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520" y="6580080"/>
            <a:ext cx="146376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6D2D-CEC0-450B-BD1D-4BA3D2BD98BC}" type="datetime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580080"/>
            <a:ext cx="548640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79880" y="6590880"/>
            <a:ext cx="128124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DEFA-9AFF-4F21-B537-E408132B2AB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Picture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501"/>
              </a:spcBef>
              <a:buClr>
                <a:srgbClr val="fdf7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3501"/>
              </a:spcBef>
              <a:buClr>
                <a:srgbClr val="fdf7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spcBef>
                <a:spcPts val="3501"/>
              </a:spcBef>
              <a:buClr>
                <a:srgbClr val="fdf7d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spcBef>
                <a:spcPts val="35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82520" y="6570720"/>
            <a:ext cx="14637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532-A456-472A-8287-9B7B74E668A3}" type="datetime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1817280" y="6580080"/>
            <a:ext cx="548820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9880" y="6568560"/>
            <a:ext cx="128124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04B5-A9CC-438F-B15E-F71EA71AF75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4"/>
          <p:cNvSpPr/>
          <p:nvPr/>
        </p:nvSpPr>
        <p:spPr>
          <a:xfrm>
            <a:off x="182520" y="6570720"/>
            <a:ext cx="1463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0AA4-692F-4D80-BB6B-20F61889BFF6}" type="datetime">
              <a:rPr b="0" lang="en-AU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680240" y="6568920"/>
            <a:ext cx="1281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203F-5A18-483E-B16C-E3663FD58F6B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352680"/>
            <a:ext cx="8869320" cy="1470240"/>
          </a:xfrm>
          <a:prstGeom prst="rect">
            <a:avLst/>
          </a:prstGeom>
          <a:gradFill rotWithShape="0">
            <a:gsLst>
              <a:gs pos="0">
                <a:srgbClr val="cc3300">
                  <a:alpha val="80000"/>
                </a:srgbClr>
              </a:gs>
              <a:gs pos="100000">
                <a:srgbClr val="777777">
                  <a:alpha val="80000"/>
                </a:srgbClr>
              </a:gs>
            </a:gsLst>
            <a:lin ang="10800000"/>
          </a:gradFill>
          <a:ln w="0">
            <a:noFill/>
          </a:ln>
        </p:spPr>
        <p:txBody>
          <a:bodyPr lIns="365760" rIns="365760" tIns="365760" bIns="365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yond First Worl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4966920"/>
            <a:ext cx="8869320" cy="74772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777777">
                  <a:alpha val="80000"/>
                </a:srgbClr>
              </a:gs>
            </a:gsLst>
            <a:lin ang="10800000"/>
          </a:gradFill>
          <a:ln w="0">
            <a:noFill/>
          </a:ln>
        </p:spPr>
        <p:txBody>
          <a:bodyPr lIns="182880" rIns="365760" tIns="182880" bIns="18288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ffffff"/>
                </a:solidFill>
                <a:latin typeface="Arial"/>
              </a:rPr>
              <a:t>Week 12</a:t>
            </a:r>
            <a:br>
              <a:rPr sz="2000"/>
            </a:b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Krystina.Benson@qut.edu.a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ki Self Assess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Assessment Question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 Self-Assessment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he wiki and have the CRA sheet beside you (from blackboard, under assignments,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ig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the class’s wiki to the other KCB202 classes or educational wikis from elsewhere within wikispa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at least 2 positive and 2 constructive criticis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assessment criteria, give an overall grade /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discuss your marks for each criteria and your comments which should justify the gr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 Self-Assessment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36520" y="1339920"/>
            <a:ext cx="8697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cussion 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let’s discu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to discuss and agree upon the areas of greatest diverg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int of this exercise is primarily to hone the skill of self-assessment, so let’s focus on th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ek 1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Only consultations during tutorial time next week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No readings or Lecture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Case Study Due: </a:t>
            </a:r>
            <a:r>
              <a:rPr b="0" lang="en-AU" sz="2900" spc="-1" strike="noStrike">
                <a:solidFill>
                  <a:srgbClr val="ffffff"/>
                </a:solidFill>
                <a:latin typeface="Arial"/>
              </a:rPr>
              <a:t>Friday, 22 October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ia assignment minder, C.O.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ad the unit 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of the read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heck your understanding of the assig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ok at the marking sh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ember, it’s a case study report not an ess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al L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on the web 29.5 % and fa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df7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Li – insight into this on Thurs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5040" y="7596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’s our last formal tutorial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5040" y="1447920"/>
            <a:ext cx="8413920" cy="49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3501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 by next week for consultations at the beginning of tutorial if you want to discuss the case stu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always email if you have questions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Handwriting - Dakota"/>
                <a:ea typeface="Handwriting - Dakota"/>
              </a:rPr>
              <a:t>Warm wishes! 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2:24:14Z</dcterms:created>
  <dc:creator>www.templateselections.com</dc:creator>
  <dc:description/>
  <dc:language>en-US</dc:language>
  <cp:lastModifiedBy>Krystina Benson</cp:lastModifiedBy>
  <dcterms:modified xsi:type="dcterms:W3CDTF">2010-10-11T01:16:14Z</dcterms:modified>
  <cp:revision>1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 design by">
    <vt:lpwstr>templateselections.com</vt:lpwstr>
  </property>
  <property fmtid="{D5CDD505-2E9C-101B-9397-08002B2CF9AE}" pid="3" name="Template license">
    <vt:lpwstr>http://creativecommons.org/licenses/by-sa/2.5/</vt:lpwstr>
  </property>
  <property fmtid="{D5CDD505-2E9C-101B-9397-08002B2CF9AE}" pid="4" name="Template photograph credits">
    <vt:lpwstr>"`gliding :P" by v1nz</vt:lpwstr>
  </property>
  <property fmtid="{D5CDD505-2E9C-101B-9397-08002B2CF9AE}" pid="5" name="Template photograph license">
    <vt:lpwstr>http://creativecommons.org/licenses/by/2.0/</vt:lpwstr>
  </property>
  <property fmtid="{D5CDD505-2E9C-101B-9397-08002B2CF9AE}" pid="6" name="Template photograph link">
    <vt:lpwstr>http://www.flickr.com/photos/v1nz/214529646/</vt:lpwstr>
  </property>
</Properties>
</file>