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BD7-ECC0-4BED-807B-A3703746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0F5-C568-4685-ACAC-A91C6C2C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EB6-D4A5-489B-A1E5-8013FF05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69C-878D-4CD9-B563-E15E1E82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3F1-469E-4F45-A01E-2BD75FB9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023-5081-4C8B-AD55-BCE4CE60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8BB-C1ED-4400-B452-68DBC03A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896-BA63-4EEE-B66A-1ADF99D8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538-4BAD-4E96-8AC8-5F9CC996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1A4-9DA7-4966-A011-105149BE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E7B-54B5-4F35-93D4-C2F0DE27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824-16CE-4B99-9CC2-1F0F2488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0AB5-8410-44D6-B2A1-E466006C0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kcb202kb1to3.wikispaces.com/zTutorial_Slides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rititja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tatacommunications.com/map/gfp.html" TargetMode="External"/><Relationship Id="rId3" Type="http://schemas.openxmlformats.org/officeDocument/2006/relationships/hyperlink" Target="http://www.telegeography.com/product-info/map_internet/images/internet_map_2010_lg.png" TargetMode="External"/><Relationship Id="rId4" Type="http://schemas.openxmlformats.org/officeDocument/2006/relationships/hyperlink" Target="http://www.isp-planet.com/img/backbones/savvis_logo-full.jpg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5072040"/>
            <a:ext cx="6786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000000"/>
                </a:solidFill>
                <a:latin typeface="Calibri"/>
              </a:rPr>
              <a:t>Geographies of New Media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5857560"/>
            <a:ext cx="56386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KCB202 Week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Titre 1"/>
          <p:cNvGrpSpPr/>
          <p:nvPr/>
        </p:nvGrpSpPr>
        <p:grpSpPr>
          <a:xfrm>
            <a:off x="676440" y="2127240"/>
            <a:ext cx="6999120" cy="2749680"/>
            <a:chOff x="676440" y="2127240"/>
            <a:chExt cx="6999120" cy="2749680"/>
          </a:xfrm>
        </p:grpSpPr>
        <p:pic>
          <p:nvPicPr>
            <p:cNvPr id="44" name="Titre 1" descr=""/>
            <p:cNvPicPr/>
            <p:nvPr/>
          </p:nvPicPr>
          <p:blipFill>
            <a:blip r:embed="rId2"/>
            <a:stretch/>
          </p:blipFill>
          <p:spPr>
            <a:xfrm>
              <a:off x="676440" y="2127240"/>
              <a:ext cx="699912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84360" y="2133720"/>
              <a:ext cx="69832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000000"/>
                  </a:solidFill>
                  <a:latin typeface="Calibri"/>
                </a:rPr>
                <a:t>Please open the powerpoint file for week 3 tutorial from the wiki: </a:t>
              </a:r>
              <a:r>
                <a:rPr b="0" lang="fr-CA" sz="32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kcb202kb1to3.wikispaces.com/zTutorial_Slides</a:t>
              </a:r>
              <a:r>
                <a:rPr b="0" lang="fr-CA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 Relevance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e laptop per chil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laptop.org/en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land – Broadband as Constitutional right http://news.cnet.com/8301-17939_109-10374831-2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n you find? Find a story &amp; relate to ge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Visual Trace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yougetsignal.com/tools/visual-trace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out: www.sohu.com  or youkou.com piratebay.com and tata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these websites based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Questions from Last Wee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eck out your permissions…on the wiki – you now have organiser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ssignment 1: Do reference your posts Harvard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ssignment 2: It is a group evaluation – assessing your wiki as a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Wiki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eck out your permission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n’t forget this week is the first week to make a post to the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eedback week 5 – I suggest that you generate a post to make use of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levance of Geography to the future of new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adings &amp;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iki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sultation time for topic sel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 Relevance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ow is geography relevant to new med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What is the relationship between new media an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13920" y="1828440"/>
            <a:ext cx="7472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ultur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ngui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From the reading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3920" y="1828440"/>
            <a:ext cx="7472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Africa, more than any other continent, is vulnerable to a cultural tidal wave coming  out of the North » (Brunet et al, 200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arison of internet to other technologies – what might happen if internet technology develops along similar lines as mobile technolo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hat are some characteristics about the relationship between technology and train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rititja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Activity: What are the meanings and implica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ck out and play with: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atacommunications.com/map/gfp.htm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 of Connec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elegeography.com/product-info/map_internet/images/internet_map_2010_lg.p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rth American”: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sp-planet.com/img/backbones/savvis_logo-full.jp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ustralia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ttp://blogs.educationau.edu.au/ksmith/2008/12/17/australian-internet-access-how-good-is-i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Concept: Digital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metaphor suggests a simple divide between two clearly divided group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 yawning gap between them. However, in contemporary modern society we may observe an increasingly complex social, economic and cultural differentiation. The expression of a stretching of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spectrum of positions across populations might be more appropri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If any demarcation would be required a tripartite distribution might be a better distinction than a two-tiered society. On the one side we would find an ‘information elite’ and at the other the digitally illiterates or exclude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but in between the majority of the population in contemporary high-tech societies having access in one way or another and using digital technology to a certain ext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see van Dijk, 199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: http://www.utwente.nl/gw/vandijk/research/digital_divide/Digital_Divide_overigen/a_framework_for_digital_divide.doc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Concept: Digital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second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rong connotation of the term digital divide is that it is unbridgeabl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 This does not seem to be the case at this early stage of diffusion of digital technology. There appears to be a scope for policymaking by governments, corporations and civil societies. That is policymaking with the intention to prevent inequalities becoming unbridgeable structural divi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third misunderstanding might b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impression that the divide is about absolute inequalities, that is between those included and those exclud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In reality most inequalities in the access to digital technology are more of a relative kind. This means tha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me are earlier than others, that some people possess more hardware, software and skills than others or that one group uses the technology more than another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should be granted that this does not make these relative inequalities of a lesser importance, particularly not in an information or network society (van Dijk, 199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Concept: Digital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inal wrong connotation is the suggestion that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ide is a static con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In fact the authors in this issue are stressing that all kinds of access a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inually moving. In doing this some inequalities are growing while others diminis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van Dijk &amp; Hack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pres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1T23:09:06Z</dcterms:created>
  <dc:creator>Krystina Benson</dc:creator>
  <dc:description/>
  <dc:language>en-US</dc:language>
  <cp:lastModifiedBy>labuser</cp:lastModifiedBy>
  <dcterms:modified xsi:type="dcterms:W3CDTF">2010-08-02T03:01:46Z</dcterms:modified>
  <cp:revision>11</cp:revision>
  <dc:subject/>
  <dc:title>Geographies of New Media</dc:title>
</cp:coreProperties>
</file>