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E33-285C-43F5-BEE5-942BE92F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0CA-3810-42B1-BE6D-392FB48B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4DF-6317-4116-9B31-F1A661B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D5C-30C9-4A33-AA23-A1449F84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722-15AE-4F0F-B4AE-9EA1AC1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99F-E0D2-47B0-869C-8DC6A27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719-ED9B-495A-A0CD-770FAD8C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977-8D06-4783-96A7-931FDEA7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18D-6BEB-479F-BAF7-FB71B6D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BA8-A975-47D0-896E-75F2ED2E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4B9-E758-455C-860F-189811A1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EA3-CC70-42ED-BBD9-8FB4ECE7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C172-BBF2-4874-93B5-9A947B073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kcb202kb1to3.wikispaces.com/zTutorial_Slides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rititj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atacommunications.com/map/gfp.html" TargetMode="External"/><Relationship Id="rId3" Type="http://schemas.openxmlformats.org/officeDocument/2006/relationships/hyperlink" Target="http://www.telegeography.com/product-info/map_internet/images/internet_map_2010_lg.png" TargetMode="External"/><Relationship Id="rId4" Type="http://schemas.openxmlformats.org/officeDocument/2006/relationships/hyperlink" Target="http://www.isp-planet.com/img/backbones/savvis_logo-full.jpg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072040"/>
            <a:ext cx="678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000000"/>
                </a:solidFill>
                <a:latin typeface="Calibri"/>
              </a:rPr>
              <a:t>Geographies of New Media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5857560"/>
            <a:ext cx="5638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KCB202 Week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Titre 1"/>
          <p:cNvGrpSpPr/>
          <p:nvPr/>
        </p:nvGrpSpPr>
        <p:grpSpPr>
          <a:xfrm>
            <a:off x="676440" y="2127240"/>
            <a:ext cx="6999120" cy="2749680"/>
            <a:chOff x="676440" y="2127240"/>
            <a:chExt cx="6999120" cy="2749680"/>
          </a:xfrm>
        </p:grpSpPr>
        <p:pic>
          <p:nvPicPr>
            <p:cNvPr id="44" name="Titre 1" descr=""/>
            <p:cNvPicPr/>
            <p:nvPr/>
          </p:nvPicPr>
          <p:blipFill>
            <a:blip r:embed="rId2"/>
            <a:stretch/>
          </p:blipFill>
          <p:spPr>
            <a:xfrm>
              <a:off x="676440" y="2127240"/>
              <a:ext cx="699912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4360" y="2133720"/>
              <a:ext cx="69832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Please open the powerpoint file for week 3 tutorial from the wiki: </a:t>
              </a:r>
              <a:r>
                <a:rPr b="0" lang="fr-CA" sz="32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kcb202kb1to3.wikispaces.com/zTutorial_Slides</a:t>
              </a: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e laptop per chil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laptop.org/en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land – Broadband as Constitutional right http://news.cnet.com/8301-17939_109-10374831-2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you find? Find a story &amp; relate to 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Visual Trace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yougetsignal.com/tools/visual-trac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out: www.sohu.com  or youkou.com piratebay.com and tat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these websites bas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Questions from Last Wee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on the wiki – you now have organiser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1: Do reference your posts Harvard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2: It is a group evaluation – assessing your wiki as a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n’t forget this week is the first week to make a post to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eedback week 5 – I suggest that you generate a post to make us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levance of Geography to the future of new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adings &amp;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ultation time for topic sel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ow is geography relevant to new med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hat is the relationship between new media an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ult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From the reading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Africa, more than any other continent, is vulnerable to a cultural tidal wave coming  out of the North » (Brunet et al, 200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arison of internet to other technologies – what might happen if internet technology develops along similar lines as mobile technolo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are some characteristics about the relationship between technology and trai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rititj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ctivity: What are the meanings and implica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and play with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atacommunications.com/map/gfp.htm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 of Conne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elegeography.com/product-info/map_internet/images/internet_map_2010_lg.p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th American”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sp-planet.com/img/backbones/savvis_logo-full.jp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ustralia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blogs.educationau.edu.au/ksmith/2008/12/17/australian-internet-access-how-good-is-i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metaphor suggests a simple divide between two clearly divided grou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yawning gap between them. However, in contemporary modern society we may observe an increasingly complex social, economic and cultural differentiation. The expression of a stretching of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spectrum of positions across populations might be more appropri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f any demarcation would be required a tripartite distribution might be a better distinction than a two-tiered society. On the one side we would find an ‘information elite’ and at the other the digitally illiterates or exclud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but in between the majority of the population in contemporary high-tech societies having access in one way or another and using digital technology to a certain ext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see 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: http://www.utwente.nl/gw/vandijk/research/digital_divide/Digital_Divide_overigen/a_framework_for_digital_divide.doc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second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ong connotation of the term digital divide is that it is unbridgeab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 This does not seem to be the case at this early stage of diffusion of digital technology. There appears to be a scope for policymaking by governments, corporations and civil societies. That is policymaking with the intention to prevent inequalities becoming unbridgeable structural divi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hird misunderstanding might b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impression that the divide is about absolute inequalities, that is between those included and those exclud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reality most inequalities in the access to digital technology are more of a relative kind. This means tha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me are earlier than others, that some people possess more hardware, software and skills than others or that one group uses the technology more than another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should be granted that this does not make these relative inequalities of a lesser importance, particularly not in an information or network society (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inal wrong connotation is the suggestion that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ide is a static con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fact the authors in this issue are stressing that all kinds of acces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ally moving. In doing this some inequalities are growing while others dimini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van Dijk &amp; Hack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pres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09:06Z</dcterms:created>
  <dc:creator>Krystina Benson</dc:creator>
  <dc:description/>
  <dc:language>en-US</dc:language>
  <cp:lastModifiedBy>labuser</cp:lastModifiedBy>
  <dcterms:modified xsi:type="dcterms:W3CDTF">2010-08-02T03:01:46Z</dcterms:modified>
  <cp:revision>11</cp:revision>
  <dc:subject/>
  <dc:title>Geographies of New Media</dc:title>
</cp:coreProperties>
</file>