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C17-79B6-484C-A812-06AAC31F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32F-16C6-4562-8CD8-6DCC7C3E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C29-7027-47DB-8993-0469D45F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1A9-6500-48A6-938B-5198C3BE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2D0-F04D-485D-8FE0-A552D459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4FB-8E63-4B6E-8B32-1AEBDC5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F3F-8823-4673-895B-90711F38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92A-EF8F-45DE-8FBE-B8812CD1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6104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6C6-5E80-46E8-BB01-10247D7A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04F-E766-4280-ACC7-317962A8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0A4-5247-4122-8F1D-E55CCF5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6E9-DFAF-41ED-9B9B-668FEF5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43A2-6F63-435E-98CA-49FB96FEB95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premix.com/" TargetMode="External"/><Relationship Id="rId2" Type="http://schemas.openxmlformats.org/officeDocument/2006/relationships/hyperlink" Target="http://www.youtube.com/watch?v=5pidokakU4I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g.wikipedia.org/wiki/Wikipedia:Administrators&apos;_noticeboar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092480"/>
            <a:ext cx="64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The World of 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olitics: Part 2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920" y="55627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CB202, Week 9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8120" y="533520"/>
            <a:ext cx="60958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iPhone development 30% of what you charge, goes to Ap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oud computing (where code goes) – Gate kee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lipside of Civic Technology without public barometer - </a:t>
            </a:r>
            <a:r>
              <a:rPr b="0" i="1" lang="en-AU" sz="2700" spc="-1" strike="noStrike">
                <a:solidFill>
                  <a:srgbClr val="222268"/>
                </a:solidFill>
                <a:latin typeface="Arial"/>
              </a:rPr>
              <a:t>1984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and privacy, but you knew what the screen in the living room was for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support for major law enforcement undertakings – visibility an important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048120" y="533520"/>
            <a:ext cx="6095880" cy="73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SA - Slavery as example for citizens not enforcing intrusive law – North vs. South, posse didn’t organ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Defence System without turning to architectures that are closed, controllable and in concentrated set parties, (which retain the code), possibily unduly allowing government reg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is suggestions: Stopbadware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222268"/>
                </a:solidFill>
                <a:latin typeface="Arial"/>
              </a:rPr>
              <a:t>Opennet.net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orks, nodes, links, pa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d hoc, self organi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npredic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orm of information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ot a “thing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wer of the crowd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hillipines, Estrada, S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tle of Seattle – WTO 199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ar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litical Swar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907080" y="4343400"/>
            <a:ext cx="49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premi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5pidokakU4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181480" y="31240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Culture is 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Restricting our cultural outputs restricts our 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6095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monzy.com/cgi-bin/viewcard.c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Individual Wiki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9080" y="1422360"/>
            <a:ext cx="91058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Group Self Assessment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4280" y="1447920"/>
            <a:ext cx="9055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048120" y="838080"/>
            <a:ext cx="556236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2268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ave you confirmed your topic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Discussion of Read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Remix Manifes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 CRA Sheets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ass Wiki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1 on 1 topic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520" y="1096560"/>
            <a:ext cx="44956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ssignment 3: </a:t>
            </a:r>
            <a:br>
              <a:rPr sz="4400"/>
            </a:b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52320" y="2514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 must confirm your topic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f you are one of those students who were supposed to email me this week and did not – or, if we haven’t yet, we need to meet 1 on 1 before you leav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3" descr="Screen shot 2010-09-13 at 9.49.55 AM.png"/>
          <p:cNvPicPr/>
          <p:nvPr/>
        </p:nvPicPr>
        <p:blipFill>
          <a:blip r:embed="rId1"/>
          <a:srcRect l="-606" t="0" r="-180" b="0"/>
          <a:stretch/>
        </p:blipFill>
        <p:spPr>
          <a:xfrm>
            <a:off x="326880" y="3379680"/>
            <a:ext cx="2802240" cy="363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creen shot 2010-09-13 at 9.51.28 AM.png"/>
          <p:cNvPicPr/>
          <p:nvPr/>
        </p:nvPicPr>
        <p:blipFill>
          <a:blip r:embed="rId2"/>
          <a:stretch/>
        </p:blipFill>
        <p:spPr>
          <a:xfrm>
            <a:off x="6288120" y="3421080"/>
            <a:ext cx="2548080" cy="34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reen shot 2010-09-13 at 9.51.50 AM.png"/>
          <p:cNvPicPr/>
          <p:nvPr/>
        </p:nvPicPr>
        <p:blipFill>
          <a:blip r:embed="rId3"/>
          <a:stretch/>
        </p:blipFill>
        <p:spPr>
          <a:xfrm>
            <a:off x="3403440" y="3398760"/>
            <a:ext cx="2548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creen shot 2010-09-13 at 9.52.20 AM.png"/>
          <p:cNvPicPr/>
          <p:nvPr/>
        </p:nvPicPr>
        <p:blipFill>
          <a:blip r:embed="rId1"/>
          <a:stretch/>
        </p:blipFill>
        <p:spPr>
          <a:xfrm>
            <a:off x="338040" y="3233880"/>
            <a:ext cx="2619360" cy="363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creen shot 2010-09-13 at 9.52.51 AM.png"/>
          <p:cNvPicPr/>
          <p:nvPr/>
        </p:nvPicPr>
        <p:blipFill>
          <a:blip r:embed="rId2"/>
          <a:stretch/>
        </p:blipFill>
        <p:spPr>
          <a:xfrm>
            <a:off x="3220920" y="3230640"/>
            <a:ext cx="2635200" cy="360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Screen shot 2010-09-13 at 9.54.55 AM.png"/>
          <p:cNvPicPr/>
          <p:nvPr/>
        </p:nvPicPr>
        <p:blipFill>
          <a:blip r:embed="rId3"/>
          <a:stretch/>
        </p:blipFill>
        <p:spPr>
          <a:xfrm>
            <a:off x="6116760" y="3124080"/>
            <a:ext cx="288288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Screen shot 2010-09-13 at 9.53.37 AM.png"/>
          <p:cNvPicPr/>
          <p:nvPr/>
        </p:nvPicPr>
        <p:blipFill>
          <a:blip r:embed="rId1"/>
          <a:stretch/>
        </p:blipFill>
        <p:spPr>
          <a:xfrm>
            <a:off x="379440" y="3473280"/>
            <a:ext cx="2523960" cy="341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Screen shot 2010-09-13 at 9.54.25 AM.png"/>
          <p:cNvPicPr/>
          <p:nvPr/>
        </p:nvPicPr>
        <p:blipFill>
          <a:blip r:embed="rId2"/>
          <a:stretch/>
        </p:blipFill>
        <p:spPr>
          <a:xfrm>
            <a:off x="3336840" y="3495600"/>
            <a:ext cx="2463840" cy="337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creen shot 2010-09-13 at 9.50.20 AM.png"/>
          <p:cNvPicPr/>
          <p:nvPr/>
        </p:nvPicPr>
        <p:blipFill>
          <a:blip r:embed="rId3"/>
          <a:stretch/>
        </p:blipFill>
        <p:spPr>
          <a:xfrm>
            <a:off x="6167520" y="3473280"/>
            <a:ext cx="25956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45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creen shot 2010-09-13 at 9.53.18 AM.png"/>
          <p:cNvPicPr/>
          <p:nvPr/>
        </p:nvPicPr>
        <p:blipFill>
          <a:blip r:embed="rId1"/>
          <a:stretch/>
        </p:blipFill>
        <p:spPr>
          <a:xfrm>
            <a:off x="3352680" y="3544920"/>
            <a:ext cx="2468520" cy="34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Screen shot 2010-09-13 at 9.59.17 AM.png"/>
          <p:cNvPicPr/>
          <p:nvPr/>
        </p:nvPicPr>
        <p:blipFill>
          <a:blip r:embed="rId2"/>
          <a:stretch/>
        </p:blipFill>
        <p:spPr>
          <a:xfrm>
            <a:off x="457200" y="3544920"/>
            <a:ext cx="2590920" cy="346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creen shot 2010-09-13 at 9.59.33 AM.png"/>
          <p:cNvPicPr/>
          <p:nvPr/>
        </p:nvPicPr>
        <p:blipFill>
          <a:blip r:embed="rId3"/>
          <a:stretch/>
        </p:blipFill>
        <p:spPr>
          <a:xfrm>
            <a:off x="6157800" y="3544920"/>
            <a:ext cx="2452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352680" y="3962520"/>
            <a:ext cx="5867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being able to use words that are related to the subject as in trademarks, software and hardware create constraints on interoperability, innovation, discovery and creativ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048120" y="533520"/>
            <a:ext cx="6095880" cy="57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hat does body surfing have to do with the internet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man, problem solvers and core civic techn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pedia – Patrolling Civically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g.wikipedia.org/wiki/Wikipedia:Administrators%27_noticeboard</a:t>
            </a:r>
            <a:r>
              <a:rPr b="0" lang="en-US" sz="13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pple 2 – first ever spread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omputer Processes – pressing Ctrl Alt Delete on a PC to se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0:48:04Z</dcterms:created>
  <dc:creator>Krystina Benson</dc:creator>
  <dc:description/>
  <dc:language>en-US</dc:language>
  <cp:lastModifiedBy>labuser</cp:lastModifiedBy>
  <dcterms:modified xsi:type="dcterms:W3CDTF">2010-09-13T04:34:43Z</dcterms:modified>
  <cp:revision>10</cp:revision>
  <dc:subject/>
  <dc:title>KCB202, Week 9 Tutorial</dc:title>
</cp:coreProperties>
</file>