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542B-B785-4CA8-80D0-CDC96BE7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42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C2A8-B3CD-4D2A-8E4F-A9E686C8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42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842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9495-EF93-40CA-BF3C-D26E0FC94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294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294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42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3842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3842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41E4-374B-4675-B3AC-84D4FD08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9273-72F5-4BD0-9959-A947962A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2E83-E846-4F9A-8F50-F2B8AD35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294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30E-BB46-4228-9B13-5C7901D6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76ED-4778-490F-804C-1E74B0AC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861048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E8AE-49F2-4B1B-85D0-0FF28D44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294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42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359C-63F7-4237-92EB-B2ADA99D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842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DEB7-787C-4E73-9F20-13190642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406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294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42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8A22-FA15-460A-BCF4-C24A6EF6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910F-6ED5-4624-B7FC-24D9261B0BEF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ipremix.com/" TargetMode="External"/><Relationship Id="rId2" Type="http://schemas.openxmlformats.org/officeDocument/2006/relationships/hyperlink" Target="http://www.youtube.com/watch?v=5pidokakU4I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ng.wikipedia.org/wiki/Wikipedia:Administrators&apos;_noticeboar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880" y="4092480"/>
            <a:ext cx="6477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The World of </a:t>
            </a:r>
            <a:br>
              <a:rPr sz="7500"/>
            </a:b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Politics: Part 2</a:t>
            </a:r>
            <a:br>
              <a:rPr sz="7500"/>
            </a:b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33920" y="5562720"/>
            <a:ext cx="5943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CB202, Week 9 Tu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3048120" y="533520"/>
            <a:ext cx="6095880" cy="63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ivic Technologies and the Future of the Interne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Jonathan Zittra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iPhone development 30% of what you charge, goes to Ap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Cloud computing (where code goes) – Gate keep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Flipside of Civic Technology without public barometer - </a:t>
            </a:r>
            <a:r>
              <a:rPr b="0" i="1" lang="en-AU" sz="2700" spc="-1" strike="noStrike">
                <a:solidFill>
                  <a:srgbClr val="222268"/>
                </a:solidFill>
                <a:latin typeface="Arial"/>
              </a:rPr>
              <a:t>1984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and privacy, but you knew what the screen in the living room was for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Civic support for major law enforcement undertakings – visibility an important fac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3048120" y="533520"/>
            <a:ext cx="6095880" cy="73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ivic Technologies and the Future of the Interne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Jonathan Zittra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USA - Slavery as example for citizens not enforcing intrusive law – North vs. South, posse didn’t organi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Civic Defence System without turning to architectures that are closed, controllable and in concentrated set parties, (which retain the code), possibily unduly allowing government regul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His suggestions: Stopbadware.or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and </a:t>
            </a:r>
            <a:r>
              <a:rPr b="0" lang="en-US" sz="2700" spc="-1" strike="noStrike">
                <a:solidFill>
                  <a:srgbClr val="222268"/>
                </a:solidFill>
                <a:latin typeface="Arial"/>
              </a:rPr>
              <a:t>Opennet.net/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3048120" y="533520"/>
            <a:ext cx="556236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mart mobs: The Next Social Revolu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Howard Rheingo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Networks, nodes, links, pa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Ad hoc, self organis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Unpredict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Form of information distrib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not a “thing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3048120" y="533520"/>
            <a:ext cx="556236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mart mobs: The Next Social Revolu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Howard Rheingo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Power of the crowd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Phillipines, Estrada, S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Battle of Seattle – WTO 199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Netwar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Political Swarm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907080" y="4343400"/>
            <a:ext cx="491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ipremix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5pidokakU4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5181480" y="312408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61645"/>
                </a:solidFill>
                <a:latin typeface="Arial"/>
              </a:rPr>
              <a:t>Culture is o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61645"/>
                </a:solidFill>
                <a:latin typeface="Arial"/>
              </a:rPr>
              <a:t>Restricting our cultural outputs restricts our cul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oo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6095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monzy.com/cgi-bin/viewcard.cg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Individual Wiki Con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19080" y="1422360"/>
            <a:ext cx="910584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Group Self Assessment Con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44280" y="1447920"/>
            <a:ext cx="90554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3048120" y="838080"/>
            <a:ext cx="5562360" cy="59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222268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Have you confirmed your topic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Tabo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Discussion of Readin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Remix Manifest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Wiki CRA Sheets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Class Wiki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1 on 1 topic discu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2520" y="1096560"/>
            <a:ext cx="44956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Assignment 3: </a:t>
            </a:r>
            <a:br>
              <a:rPr sz="4400"/>
            </a:b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352320" y="25142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You must confirm your topic with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f you are one of those students who were supposed to email me this week and did not – or, if we haven’t yet, we need to meet 1 on 1 before you leave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ontent Placeholder 3" descr="Screen shot 2010-09-13 at 9.49.55 AM.png"/>
          <p:cNvPicPr/>
          <p:nvPr/>
        </p:nvPicPr>
        <p:blipFill>
          <a:blip r:embed="rId1"/>
          <a:srcRect l="-606" t="0" r="-180" b="0"/>
          <a:stretch/>
        </p:blipFill>
        <p:spPr>
          <a:xfrm>
            <a:off x="326880" y="3379680"/>
            <a:ext cx="2802240" cy="3630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Screen shot 2010-09-13 at 9.51.28 AM.png"/>
          <p:cNvPicPr/>
          <p:nvPr/>
        </p:nvPicPr>
        <p:blipFill>
          <a:blip r:embed="rId2"/>
          <a:stretch/>
        </p:blipFill>
        <p:spPr>
          <a:xfrm>
            <a:off x="6288120" y="3421080"/>
            <a:ext cx="2548080" cy="3417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Screen shot 2010-09-13 at 9.51.50 AM.png"/>
          <p:cNvPicPr/>
          <p:nvPr/>
        </p:nvPicPr>
        <p:blipFill>
          <a:blip r:embed="rId3"/>
          <a:stretch/>
        </p:blipFill>
        <p:spPr>
          <a:xfrm>
            <a:off x="3403440" y="3398760"/>
            <a:ext cx="2548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68"/>
                </a:solidFill>
                <a:latin typeface="Arial"/>
              </a:rPr>
              <a:t>Tab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Screen shot 2010-09-13 at 9.52.20 AM.png"/>
          <p:cNvPicPr/>
          <p:nvPr/>
        </p:nvPicPr>
        <p:blipFill>
          <a:blip r:embed="rId1"/>
          <a:stretch/>
        </p:blipFill>
        <p:spPr>
          <a:xfrm>
            <a:off x="338040" y="3233880"/>
            <a:ext cx="2619360" cy="3639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creen shot 2010-09-13 at 9.52.51 AM.png"/>
          <p:cNvPicPr/>
          <p:nvPr/>
        </p:nvPicPr>
        <p:blipFill>
          <a:blip r:embed="rId2"/>
          <a:stretch/>
        </p:blipFill>
        <p:spPr>
          <a:xfrm>
            <a:off x="3220920" y="3230640"/>
            <a:ext cx="2635200" cy="3608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Screen shot 2010-09-13 at 9.54.55 AM.png"/>
          <p:cNvPicPr/>
          <p:nvPr/>
        </p:nvPicPr>
        <p:blipFill>
          <a:blip r:embed="rId3"/>
          <a:stretch/>
        </p:blipFill>
        <p:spPr>
          <a:xfrm>
            <a:off x="6116760" y="3124080"/>
            <a:ext cx="288288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Screen shot 2010-09-13 at 9.53.37 AM.png"/>
          <p:cNvPicPr/>
          <p:nvPr/>
        </p:nvPicPr>
        <p:blipFill>
          <a:blip r:embed="rId1"/>
          <a:stretch/>
        </p:blipFill>
        <p:spPr>
          <a:xfrm>
            <a:off x="379440" y="3473280"/>
            <a:ext cx="2523960" cy="3418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Screen shot 2010-09-13 at 9.54.25 AM.png"/>
          <p:cNvPicPr/>
          <p:nvPr/>
        </p:nvPicPr>
        <p:blipFill>
          <a:blip r:embed="rId2"/>
          <a:stretch/>
        </p:blipFill>
        <p:spPr>
          <a:xfrm>
            <a:off x="3336840" y="3495600"/>
            <a:ext cx="2463840" cy="3375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Screen shot 2010-09-13 at 9.50.20 AM.png"/>
          <p:cNvPicPr/>
          <p:nvPr/>
        </p:nvPicPr>
        <p:blipFill>
          <a:blip r:embed="rId3"/>
          <a:stretch/>
        </p:blipFill>
        <p:spPr>
          <a:xfrm>
            <a:off x="6167520" y="3473280"/>
            <a:ext cx="2595600" cy="34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45"/>
                </a:solidFill>
                <a:latin typeface="Arial"/>
              </a:rPr>
              <a:t>Tab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Screen shot 2010-09-13 at 9.53.18 AM.png"/>
          <p:cNvPicPr/>
          <p:nvPr/>
        </p:nvPicPr>
        <p:blipFill>
          <a:blip r:embed="rId1"/>
          <a:stretch/>
        </p:blipFill>
        <p:spPr>
          <a:xfrm>
            <a:off x="3352680" y="3544920"/>
            <a:ext cx="2468520" cy="3419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Screen shot 2010-09-13 at 9.59.17 AM.png"/>
          <p:cNvPicPr/>
          <p:nvPr/>
        </p:nvPicPr>
        <p:blipFill>
          <a:blip r:embed="rId2"/>
          <a:stretch/>
        </p:blipFill>
        <p:spPr>
          <a:xfrm>
            <a:off x="457200" y="3544920"/>
            <a:ext cx="2590920" cy="3465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Screen shot 2010-09-13 at 9.59.33 AM.png"/>
          <p:cNvPicPr/>
          <p:nvPr/>
        </p:nvPicPr>
        <p:blipFill>
          <a:blip r:embed="rId3"/>
          <a:stretch/>
        </p:blipFill>
        <p:spPr>
          <a:xfrm>
            <a:off x="6157800" y="3544920"/>
            <a:ext cx="24526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3352680" y="3962520"/>
            <a:ext cx="58676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 being able to use words that are related to the subject as in trademarks, software and hardware create constraints on interoperability, innovation, discovery and creativit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2590920" y="0"/>
            <a:ext cx="6553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3048120" y="533520"/>
            <a:ext cx="6095880" cy="57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ivic Technologies and the Future of the Interne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Jonathan Zittra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What does body surfing have to do with the internet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Batman, problem solvers and core civic technolog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Wikipedia – Patrolling Civically 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ng.wikipedia.org/wiki/Wikipedia:Administrators%27_noticeboard</a:t>
            </a:r>
            <a:r>
              <a:rPr b="0" lang="en-US" sz="13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Apple 2 – first ever spreadshe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0" lang="en-AU" sz="2700" spc="-1" strike="noStrike">
                <a:solidFill>
                  <a:srgbClr val="222268"/>
                </a:solidFill>
                <a:latin typeface="Arial"/>
              </a:rPr>
              <a:t>Computer Processes – pressing Ctrl Alt Delete on a PC to see . .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00:48:04Z</dcterms:created>
  <dc:creator>Krystina Benson</dc:creator>
  <dc:description/>
  <dc:language>en-US</dc:language>
  <cp:lastModifiedBy>labuser</cp:lastModifiedBy>
  <dcterms:modified xsi:type="dcterms:W3CDTF">2010-09-13T04:34:43Z</dcterms:modified>
  <cp:revision>10</cp:revision>
  <dc:subject/>
  <dc:title>KCB202, Week 9 Tutorial</dc:title>
</cp:coreProperties>
</file>